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5483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9552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3"/>
          </p:nvPr>
        </p:nvSpPr>
        <p:spPr>
          <a:xfrm>
            <a:off x="3938400" y="-360"/>
            <a:ext cx="30128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1772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6272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0" y="877068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3938400" y="8770680"/>
            <a:ext cx="30128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4083180-D150-4947-B07D-B1DB2E5E555B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27000" y="4385880"/>
            <a:ext cx="509904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45080" y="640836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4787640" y="638136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Diseño de un Sistema de Vigilancia de la Calidad del Agua Potable Urbana (SVCAPU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42920" y="3500280"/>
            <a:ext cx="71294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strategia para el desarroll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 modelos de simul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vigilanc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Etapa 2 del reglamento DBPR elaborado por la USEP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tender los puntos de mayor riesg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valuación inicial del sistema (IDSE) mediante el uso de modelos hidráulic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comiendan utilizar e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92000" y="134100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vigilancia Caso Brasi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371600" y="2427120"/>
            <a:ext cx="6489720" cy="4192920"/>
          </a:xfrm>
          <a:prstGeom prst="rect">
            <a:avLst/>
          </a:prstGeom>
          <a:ln w="15840">
            <a:solidFill>
              <a:srgbClr val="003366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0" y="5300640"/>
            <a:ext cx="14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Fuente: Vasconcelos et 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ostos del mode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Tahoma"/>
              </a:rPr>
              <a:t>Elaboración del mode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atastro actualizado y digitaliz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ersonal capacitado en la elaboración de model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quipo de cómputo y softw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Tahoma"/>
              </a:rPr>
              <a:t>Calibración hidráulica del mode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Mediciones continuas de flujo y presión (macromedi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apacidad y patrón de flujo en los tanques del siste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urvas de operación de los equipos de bombe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egistro del consumo (micromedi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studios con trazado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Costos del model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Calibración de calidad del ag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nálisis continuos de los componentes a simula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studio de laboratorio para determinar coeficientes de decaimient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Mantenimiento del mode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ctualizar cuando se realicen cambios en la r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Verificar constantemente contra mediciones en camp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Aplicación en vigilanc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Sólo es redituable si también se utilizan en acciones de contr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Tahoma"/>
              </a:rPr>
              <a:t>El sistema de vigilancia funciona más eficientemente en sistema control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7545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r esto: se propone una </a:t>
            </a: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estrategia de desarroll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de modelos a partir de su aplicación en el control de sis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Estrategia de desarroll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5506920" y="2593800"/>
            <a:ext cx="345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sarrollo grad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onsidera el estado de desarrollo actual del sist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ada actividad requerida para elaborar el modelo trae beneficios inmedia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Se explican los beneficios del uso de modelos en actividades de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35640" y="1647720"/>
            <a:ext cx="37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ahoma"/>
              </a:rPr>
              <a:t>Características de la estrategia de desarrollo de mode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42920" y="1773360"/>
            <a:ext cx="5292720" cy="40129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>
            <a:alphaModFix amt="30000"/>
          </a:blip>
          <a:stretch/>
        </p:blipFill>
        <p:spPr>
          <a:xfrm>
            <a:off x="357120" y="127080"/>
            <a:ext cx="8280360" cy="6475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397040" y="150840"/>
            <a:ext cx="4389840" cy="581400"/>
          </a:xfrm>
          <a:prstGeom prst="rect">
            <a:avLst/>
          </a:prstGeom>
          <a:solidFill>
            <a:srgbClr val="e5ffff">
              <a:alpha val="20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Beneficios inmedia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5489640"/>
            <a:ext cx="3024000" cy="1434600"/>
          </a:xfrm>
          <a:prstGeom prst="rect">
            <a:avLst/>
          </a:prstGeom>
          <a:solidFill>
            <a:srgbClr val="e5ffff">
              <a:alpha val="20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Guías de la estrategia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odel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ctorizació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Estrategia de desarroll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1700280"/>
          <a:ext cx="8229600" cy="4083120"/>
        </p:xfrm>
        <a:graphic>
          <a:graphicData uri="http://schemas.openxmlformats.org/drawingml/2006/table">
            <a:tbl>
              <a:tblPr/>
              <a:tblGrid>
                <a:gridCol w="3024000"/>
                <a:gridCol w="5205600"/>
              </a:tblGrid>
              <a:tr h="366120">
                <a:tc>
                  <a:txBody>
                    <a:bodyPr lIns="3600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Fase de desarroll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588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prelimin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finición de 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sectores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ncep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8188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o hidrául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cro y macromedi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gitalización del catast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laboración de modelos hidráulicos para aplicaciones de planeación (de la red primaria, de estado estacionario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6172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ase 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mulación hidrául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odelos de simulación de la red secunda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Sectorización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de la red secunda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5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libración de los modelos hidráulicos (EP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ase 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mulación de calidad del agu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trol activo de fugas (ALC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libración de calidad del agu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9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studios de calidad del agu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6600">
                <a:tc rowSpan="2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I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tenimiento del mode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ualización de los modelos y mejora de la exactitud de sus simulacion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plicaciones en actividades avanzadas de contr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646200" y="-442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ectorización conceptu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62658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Sector conceptual: sector identificado en planos que se convertirá en un sector de red secund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cc00"/>
                </a:solidFill>
                <a:latin typeface="Tahoma"/>
              </a:rPr>
              <a:t>El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sector</a:t>
            </a:r>
            <a:r>
              <a:rPr b="0" lang="es-ES" sz="2200" spc="-1" strike="noStrike">
                <a:solidFill>
                  <a:srgbClr val="ffcc00"/>
                </a:solidFill>
                <a:latin typeface="Tahoma"/>
              </a:rPr>
              <a:t> como unidad geográfica básica del SV: espacio que ocupa la población que se ve afectada por un conjunto único de factores de riesg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El sector conceptual definirá los sitios de muestreo inici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La sectorización sirve a los objetivos del control y la vigilanc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rcRect l="0" t="0" r="42812" b="0"/>
          <a:stretch/>
        </p:blipFill>
        <p:spPr>
          <a:xfrm>
            <a:off x="6656400" y="2421000"/>
            <a:ext cx="2308320" cy="302904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Fase I: Modelo hidráulic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91520" cy="32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icro y macro medi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Catastro digitaliz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Elaboración de modelos hidráulicos para planeación (Estado estacionari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istema de Vigilancia (SVCAPU</a:t>
            </a: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3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terés inicial del ERSP por identificar sitios de muestreo utilizando modelos matemáticos de calidad del ag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ibliografía reciente sobre el te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nexo A del proyec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28000" y="1752480"/>
            <a:ext cx="754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cc00"/>
                </a:solidFill>
                <a:latin typeface="Tahoma"/>
              </a:rPr>
              <a:t>Especial enfoque en el uso de mode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Fase II: Simulación hidrául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odelo de simulación red secund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Sectorización fís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alibración de modelos hidráuli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ontrol activo de fug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ffff"/>
                </a:solidFill>
                <a:latin typeface="Tahoma"/>
              </a:rPr>
              <a:t>Fase III: Simulación de calidad </a:t>
            </a:r>
            <a:br>
              <a:rPr sz="3600"/>
            </a:br>
            <a:r>
              <a:rPr b="1" lang="es-MX" sz="3600" spc="-1" strike="noStrike">
                <a:solidFill>
                  <a:srgbClr val="e5ffff"/>
                </a:solidFill>
                <a:latin typeface="Tahoma"/>
              </a:rPr>
              <a:t>del agua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2438280"/>
            <a:ext cx="7162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cc00"/>
                </a:solidFill>
                <a:latin typeface="Tahoma"/>
              </a:rPr>
              <a:t>Calibración de calidad del agu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cc00"/>
                </a:solidFill>
                <a:latin typeface="Tahoma"/>
              </a:rPr>
              <a:t>Control de DBP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cc00"/>
                </a:solidFill>
                <a:latin typeface="Tahoma"/>
              </a:rPr>
              <a:t>Estudios de calidad del agua (Cl residual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5ffff"/>
                </a:solidFill>
                <a:latin typeface="Tahoma"/>
              </a:rPr>
              <a:t>Fase IV: Mantenimiento del modelo calibrado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41080"/>
            <a:ext cx="8075520" cy="25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Actualización del catast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Actualización del modelo y mejora de la exactitud de sus simula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Análisis costo-benefici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989000"/>
          <a:ext cx="8229600" cy="3976920"/>
        </p:xfrm>
        <a:graphic>
          <a:graphicData uri="http://schemas.openxmlformats.org/drawingml/2006/table">
            <a:tbl>
              <a:tblPr/>
              <a:tblGrid>
                <a:gridCol w="4579920"/>
                <a:gridCol w="1289160"/>
                <a:gridCol w="2360520"/>
              </a:tblGrid>
              <a:tr h="432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ncep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ant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mentari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rcentaje de ahorro de agua estim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obre demanda 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71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para desarrollo del modelo (sectorización) (Balboas/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60,00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xperiencias en Méx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del agua (Balboas/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promed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nsidad de población (hab/Km</a:t>
                      </a:r>
                      <a:r>
                        <a:rPr b="0" lang="es-MX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tación (L/hab/dí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tación por 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(L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horro por 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L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horro anual (Balboas/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85,41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Software EPANE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3961080" cy="2691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372360" y="3429000"/>
            <a:ext cx="2412720" cy="2637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3924360" y="4076640"/>
            <a:ext cx="2187360" cy="22035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24000" y="1773360"/>
            <a:ext cx="3600360" cy="44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rograma de trabaj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Gratuit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El mismo “engine” que los software comercia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osibilidad de modificar el código fuente para personalizar el progra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oftware WaterC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516720" y="1916280"/>
            <a:ext cx="2185920" cy="30636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228600" y="1700280"/>
            <a:ext cx="604836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Programa de captura y aná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Es compatible con EPA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Buen servicio de atención al cliente y asistencia en línea en Latinoamérica (atienden en españo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Tienen programado un curso a realizarse en la ciudad de Panamá para el año 200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Su costo es similar al resto de los programas o softwares equivalentes que tienen interfase C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5ffff"/>
                </a:solidFill>
                <a:latin typeface="Tahoma"/>
              </a:rPr>
              <a:t>Elaboración del modelo hidráulico de “El Fortín</a:t>
            </a:r>
            <a:r>
              <a:rPr b="0" lang="es-MX" sz="4000" spc="-1" strike="noStrike">
                <a:solidFill>
                  <a:srgbClr val="e5ffff"/>
                </a:solidFill>
                <a:latin typeface="Tahoma"/>
              </a:rPr>
              <a:t>”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>
            <a:alphaModFix amt="60000"/>
          </a:blip>
          <a:srcRect l="43892" t="18692" r="14631" b="49325"/>
          <a:stretch/>
        </p:blipFill>
        <p:spPr>
          <a:xfrm>
            <a:off x="4284720" y="1968480"/>
            <a:ext cx="4395600" cy="39816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303120" y="1716120"/>
            <a:ext cx="3764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Empresa Altos de Vistam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Información sobre su infraestructura hidráu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Se elaboró el modelo hidráu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Falta poca información para realizar la calibración hidráu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Se realizó un ejercicio de calibración con información hipoté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alibración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67520" y="1295280"/>
            <a:ext cx="8267040" cy="5221080"/>
            <a:chOff x="767520" y="1295280"/>
            <a:chExt cx="8267040" cy="5221080"/>
          </a:xfrm>
        </p:grpSpPr>
        <p:sp>
          <p:nvSpPr>
            <p:cNvPr id="159" name=""/>
            <p:cNvSpPr/>
            <p:nvPr/>
          </p:nvSpPr>
          <p:spPr>
            <a:xfrm>
              <a:off x="985680" y="1363680"/>
              <a:ext cx="6734160" cy="4624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85680" y="532764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85680" y="466740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85680" y="4006800"/>
              <a:ext cx="6734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85680" y="334656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85680" y="268452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85680" y="202572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85680" y="136368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85680" y="1363680"/>
              <a:ext cx="6734160" cy="462420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85680" y="1363680"/>
              <a:ext cx="1800" cy="4624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49320" y="5987880"/>
              <a:ext cx="36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49320" y="532764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49320" y="466740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49320" y="4006800"/>
              <a:ext cx="36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49320" y="334656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49320" y="268452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49320" y="202572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49320" y="136368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85680" y="5987880"/>
              <a:ext cx="6734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9856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125424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5238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17938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0638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3320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6002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28702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313992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4099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6799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9481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2181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4863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47563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02596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29416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5641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8341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10380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37380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6405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69105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718020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745020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71984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19240" y="1887480"/>
              <a:ext cx="6465960" cy="2266920"/>
            </a:xfrm>
            <a:custGeom>
              <a:avLst/>
              <a:gdLst/>
              <a:ahLst/>
              <a:rect l="l" t="t" r="r" b="b"/>
              <a:pathLst>
                <a:path w="4582" h="1597">
                  <a:moveTo>
                    <a:pt x="0" y="59"/>
                  </a:moveTo>
                  <a:lnTo>
                    <a:pt x="191" y="0"/>
                  </a:lnTo>
                  <a:lnTo>
                    <a:pt x="382" y="125"/>
                  </a:lnTo>
                  <a:lnTo>
                    <a:pt x="573" y="273"/>
                  </a:lnTo>
                  <a:lnTo>
                    <a:pt x="764" y="444"/>
                  </a:lnTo>
                  <a:lnTo>
                    <a:pt x="955" y="636"/>
                  </a:lnTo>
                  <a:lnTo>
                    <a:pt x="1146" y="847"/>
                  </a:lnTo>
                  <a:lnTo>
                    <a:pt x="1337" y="1079"/>
                  </a:lnTo>
                  <a:lnTo>
                    <a:pt x="1527" y="1328"/>
                  </a:lnTo>
                  <a:lnTo>
                    <a:pt x="1718" y="1461"/>
                  </a:lnTo>
                  <a:lnTo>
                    <a:pt x="1909" y="1597"/>
                  </a:lnTo>
                  <a:lnTo>
                    <a:pt x="2100" y="1597"/>
                  </a:lnTo>
                  <a:lnTo>
                    <a:pt x="2291" y="1461"/>
                  </a:lnTo>
                  <a:lnTo>
                    <a:pt x="2482" y="1461"/>
                  </a:lnTo>
                  <a:lnTo>
                    <a:pt x="2673" y="1202"/>
                  </a:lnTo>
                  <a:lnTo>
                    <a:pt x="2864" y="1079"/>
                  </a:lnTo>
                  <a:lnTo>
                    <a:pt x="3055" y="961"/>
                  </a:lnTo>
                  <a:lnTo>
                    <a:pt x="3245" y="847"/>
                  </a:lnTo>
                  <a:lnTo>
                    <a:pt x="3436" y="739"/>
                  </a:lnTo>
                  <a:lnTo>
                    <a:pt x="3627" y="636"/>
                  </a:lnTo>
                  <a:lnTo>
                    <a:pt x="3818" y="537"/>
                  </a:lnTo>
                  <a:lnTo>
                    <a:pt x="4009" y="356"/>
                  </a:lnTo>
                  <a:lnTo>
                    <a:pt x="4200" y="273"/>
                  </a:lnTo>
                  <a:lnTo>
                    <a:pt x="4391" y="125"/>
                  </a:lnTo>
                  <a:lnTo>
                    <a:pt x="4582" y="59"/>
                  </a:lnTo>
                </a:path>
              </a:pathLst>
            </a:custGeom>
            <a:noFill/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19240" y="1865160"/>
              <a:ext cx="6465960" cy="2252880"/>
            </a:xfrm>
            <a:custGeom>
              <a:avLst/>
              <a:gdLst/>
              <a:ahLst/>
              <a:rect l="l" t="t" r="r" b="b"/>
              <a:pathLst>
                <a:path w="4582" h="1588">
                  <a:moveTo>
                    <a:pt x="0" y="59"/>
                  </a:moveTo>
                  <a:lnTo>
                    <a:pt x="191" y="0"/>
                  </a:lnTo>
                  <a:lnTo>
                    <a:pt x="382" y="123"/>
                  </a:lnTo>
                  <a:lnTo>
                    <a:pt x="573" y="269"/>
                  </a:lnTo>
                  <a:lnTo>
                    <a:pt x="764" y="438"/>
                  </a:lnTo>
                  <a:lnTo>
                    <a:pt x="955" y="627"/>
                  </a:lnTo>
                  <a:lnTo>
                    <a:pt x="1146" y="839"/>
                  </a:lnTo>
                  <a:lnTo>
                    <a:pt x="1337" y="1070"/>
                  </a:lnTo>
                  <a:lnTo>
                    <a:pt x="1527" y="1319"/>
                  </a:lnTo>
                  <a:lnTo>
                    <a:pt x="1718" y="1452"/>
                  </a:lnTo>
                  <a:lnTo>
                    <a:pt x="1909" y="1588"/>
                  </a:lnTo>
                  <a:lnTo>
                    <a:pt x="2100" y="1588"/>
                  </a:lnTo>
                  <a:lnTo>
                    <a:pt x="2291" y="1452"/>
                  </a:lnTo>
                  <a:lnTo>
                    <a:pt x="2482" y="1452"/>
                  </a:lnTo>
                  <a:lnTo>
                    <a:pt x="2673" y="1192"/>
                  </a:lnTo>
                  <a:lnTo>
                    <a:pt x="2864" y="1070"/>
                  </a:lnTo>
                  <a:lnTo>
                    <a:pt x="3055" y="952"/>
                  </a:lnTo>
                  <a:lnTo>
                    <a:pt x="3245" y="839"/>
                  </a:lnTo>
                  <a:lnTo>
                    <a:pt x="3436" y="731"/>
                  </a:lnTo>
                  <a:lnTo>
                    <a:pt x="3627" y="627"/>
                  </a:lnTo>
                  <a:lnTo>
                    <a:pt x="3818" y="530"/>
                  </a:lnTo>
                  <a:lnTo>
                    <a:pt x="4009" y="350"/>
                  </a:lnTo>
                  <a:lnTo>
                    <a:pt x="4200" y="269"/>
                  </a:lnTo>
                  <a:lnTo>
                    <a:pt x="4391" y="123"/>
                  </a:lnTo>
                  <a:lnTo>
                    <a:pt x="4582" y="59"/>
                  </a:lnTo>
                </a:path>
              </a:pathLst>
            </a:custGeom>
            <a:noFill/>
            <a:ln w="11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89000" y="1941480"/>
              <a:ext cx="60480" cy="604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59000" y="185724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28640" y="2035080"/>
              <a:ext cx="5904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98640" y="2244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68640" y="2487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36840" y="2760840"/>
              <a:ext cx="6012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06840" y="305928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76480" y="338940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44680" y="3741840"/>
              <a:ext cx="59040" cy="6012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1468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82880" y="4124160"/>
              <a:ext cx="60480" cy="5904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52880" y="4124160"/>
              <a:ext cx="58680" cy="5904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2288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9252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8" y="0"/>
                  </a:moveTo>
                  <a:lnTo>
                    <a:pt x="75" y="38"/>
                  </a:lnTo>
                  <a:lnTo>
                    <a:pt x="38" y="76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62520" y="3564000"/>
              <a:ext cx="58680" cy="586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30720" y="3389400"/>
              <a:ext cx="604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00720" y="322092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68920" y="305928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938920" y="290664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08560" y="2760840"/>
              <a:ext cx="59040" cy="586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77120" y="2619360"/>
              <a:ext cx="60120" cy="604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46760" y="236232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8"/>
                  </a:lnTo>
                  <a:lnTo>
                    <a:pt x="38" y="75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16760" y="2244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86760" y="20350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8"/>
                  </a:lnTo>
                  <a:lnTo>
                    <a:pt x="38" y="75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556400" y="1941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89000" y="1919160"/>
              <a:ext cx="604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59000" y="18352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28640" y="2009880"/>
              <a:ext cx="5904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98640" y="221616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68640" y="2455920"/>
              <a:ext cx="58680" cy="601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36840" y="2724120"/>
              <a:ext cx="6012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06840" y="30258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76480" y="335268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44680" y="3706920"/>
              <a:ext cx="59040" cy="601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1468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82880" y="4087800"/>
              <a:ext cx="604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52880" y="408780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2288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9252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62520" y="352584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30720" y="3352680"/>
              <a:ext cx="604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00720" y="31860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68920" y="30258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38920" y="287172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08560" y="2724120"/>
              <a:ext cx="5904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77120" y="2587680"/>
              <a:ext cx="6012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46760" y="23320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16760" y="221616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286760" y="20098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56400" y="19191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7520" y="5919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67520" y="5259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7520" y="4599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7520" y="3938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7520" y="32781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7520" y="26161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7520" y="19573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7520" y="12952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8900000">
              <a:off x="79884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8900000">
              <a:off x="106704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8900000">
              <a:off x="133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8900000">
              <a:off x="160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8900000">
              <a:off x="187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4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8900000">
              <a:off x="21463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5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8900000">
              <a:off x="24148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6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8900000">
              <a:off x="26845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7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8900000">
              <a:off x="295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8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8900000">
              <a:off x="322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9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8900000">
              <a:off x="349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8900000">
              <a:off x="37609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8900000">
              <a:off x="40309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8900000">
              <a:off x="430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8900000">
              <a:off x="457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4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8900000">
              <a:off x="484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8900000">
              <a:off x="51087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6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8900000">
              <a:off x="53769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7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8900000">
              <a:off x="56469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8900000">
              <a:off x="59166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8900000">
              <a:off x="61866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8900000">
              <a:off x="645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8900000">
              <a:off x="672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8900000">
              <a:off x="699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8900000">
              <a:off x="7126200" y="62402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4:0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812000" y="3500280"/>
              <a:ext cx="1222560" cy="505080"/>
            </a:xfrm>
            <a:prstGeom prst="rect">
              <a:avLst/>
            </a:prstGeom>
            <a:solidFill>
              <a:srgbClr val="e9e9e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853400" y="3591000"/>
              <a:ext cx="236520" cy="1440"/>
            </a:xfrm>
            <a:prstGeom prst="line">
              <a:avLst/>
            </a:prstGeom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40520" y="3560760"/>
              <a:ext cx="60480" cy="586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80920" y="3525840"/>
              <a:ext cx="869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ahoma"/>
                </a:rPr>
                <a:t>Simua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853400" y="3828960"/>
              <a:ext cx="236520" cy="1800"/>
            </a:xfrm>
            <a:prstGeom prst="line">
              <a:avLst/>
            </a:prstGeom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40520" y="3795840"/>
              <a:ext cx="604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13320" y="3700440"/>
              <a:ext cx="71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di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e5ffff"/>
                </a:solidFill>
                <a:latin typeface="Tahoma"/>
              </a:rPr>
              <a:t>Simulación de residual de Cl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87487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Resum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El uso de modelos en vigilancia es útil, pero el desarrollo de modelos es una tarea que demanda muchos recurso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or este motivo se propuso la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estrategia de desarrollo</a:t>
            </a: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 de modelos que propone un trabajo gradual y resalta lo beneficios en control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Se propone la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sectorización</a:t>
            </a: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 como una estrategia de control y con aplicaciones en la vigilancia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Como parte de la estrategia se seleccionaron los software con que se desarrollarán los modelos, se capacitó al personal del ERSP en su uso y se adquirió una licencia de WaterCAD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2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00"/>
                </a:solidFill>
                <a:latin typeface="Tahoma"/>
              </a:rPr>
              <a:t>Modelo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Representación de una red hidráulica existente mediante un software y la información que describe l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r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Tahoma"/>
              </a:rPr>
              <a:t>Calibración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Es el procedimiento de realizar ajustes a los parámetros del modelo (rugosidad, demandas, fugas, controles, niveles en tanques, etc.) para que se obtengan resultados que representen mediciones reales con cierto grado de exactitud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Tahoma"/>
              </a:rPr>
              <a:t>Simulación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Son los resultados que ofrece un modelo calibrado y que representan con cierto nivel de confiabilidad las condiciones de operación reales  de una r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3659040" y="1447920"/>
            <a:ext cx="26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Defini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79200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cc00"/>
                </a:solidFill>
                <a:latin typeface="Tahoma"/>
              </a:rPr>
              <a:t>Es una herramienta que permite entender el comportamiento de un sistema complejo y con la que es posible simular el com-portamiento del sistema en diferentes situaciones hipotéticas</a:t>
            </a:r>
            <a:r>
              <a:rPr b="0" lang="es-MX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906800" cy="28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Modelo hidrául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Flujo en cada tubo, presión en cada no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Procedencia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E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Concentración de componentes no reactiv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515772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La calibración puede tener diferentes niveles de exactit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8360" y="3213000"/>
            <a:ext cx="360360" cy="1728720"/>
          </a:xfrm>
          <a:custGeom>
            <a:avLst/>
            <a:gdLst>
              <a:gd name="textAreaLeft" fmla="*/ 0 w 360360"/>
              <a:gd name="textAreaRight" fmla="*/ 129960 w 360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08720" y="3575160"/>
            <a:ext cx="338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arámetros hidráulicos que funcionan como indicadores de la calidad del agu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odelo de calidad del agu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Concentración de componentes reactiv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Las variaciones son ocasionadas por advección (modelo hidráulico) y reacciones fisicoquímic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Forma de estudiar las variaciones temporales y espaciales de la cali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Aplicacion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Control del siste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n-US" sz="2600" spc="-1" strike="noStrike">
                <a:solidFill>
                  <a:srgbClr val="ffcc00"/>
                </a:solidFill>
                <a:latin typeface="Tahoma"/>
              </a:rPr>
              <a:t>control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se consigue cuando se comprende el comportamiento del agua en la red y es posible modificar ese comportamient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jemplo: sectorización en Méxic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Vigila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jemplo: EPA y Brasi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contro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torización en Ciudad de Méx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Sector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: porción de la red secundaria aislada del resto de la red hidráulica del sistem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os modelos se utilizaron para diseñar los sectores y estimar reducción de fug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horro gracias al control de presión y el control activo de fugas (ALC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1640" y="1293840"/>
            <a:ext cx="7345440" cy="55087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2946960" y="5589720"/>
            <a:ext cx="526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Aplicación en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Reducción de fugas de fon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6040" y="401760"/>
            <a:ext cx="82296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0:48:54Z</dcterms:created>
  <dc:creator>Jorge Eugenio Barrios Ordóñez</dc:creator>
  <dc:description/>
  <dc:language>en-US</dc:language>
  <cp:lastModifiedBy>Arturo Tapia</cp:lastModifiedBy>
  <dcterms:modified xsi:type="dcterms:W3CDTF">2004-01-31T17:16:49Z</dcterms:modified>
  <cp:revision>95</cp:revision>
  <dc:subject/>
  <dc:title>Sistema de Vigilancia de la Calidad del Agua Potable en Zonas Rura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63810437</vt:r8>
  </property>
  <property fmtid="{D5CDD505-2E9C-101B-9397-08002B2CF9AE}" pid="3" name="_AuthorEmail">
    <vt:lpwstr>eugeniob@infosel.net.mx</vt:lpwstr>
  </property>
  <property fmtid="{D5CDD505-2E9C-101B-9397-08002B2CF9AE}" pid="4" name="_AuthorEmailDisplayName">
    <vt:lpwstr>J. Eugenio Barrios O.</vt:lpwstr>
  </property>
  <property fmtid="{D5CDD505-2E9C-101B-9397-08002B2CF9AE}" pid="5" name="_EmailSubject">
    <vt:lpwstr>Presentación</vt:lpwstr>
  </property>
  <property fmtid="{D5CDD505-2E9C-101B-9397-08002B2CF9AE}" pid="6" name="_ReviewingToolsShownOnce">
    <vt:lpwstr/>
  </property>
</Properties>
</file>